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7AE-364A-471B-A5D1-5C30BA03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AA0-74B8-4636-BE94-310F048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645-A51C-436D-AAE6-D2F2A6AC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DA6-CE6E-4187-82D5-B307EC89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AE8E-5817-4818-B553-250D20E8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C5D5-9A3D-4733-BDA2-BBF123E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0100-13F0-41B1-B124-0185467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0420-21F9-492C-A46F-4A45437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D777-8696-4749-95DD-3F2EDA0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428-7A26-4B9E-987B-C06422C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378-52F2-4306-93FC-8388512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E23-AC5B-4A34-B147-1E457E3F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1141-D7CE-41FD-939F-3EA4CF0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22F-E996-45B0-B28D-00C3CD6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82C-3961-4E15-B881-97199FF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7A1-AD74-4D39-A79F-2B913AF7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5C38-E2F6-4FFC-93DA-A34DAAD2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67-F942-4912-9EC7-14BF12F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3D8-FA7E-43D1-A070-669960C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BE2-654B-4131-9B48-8D0F2FE3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CBC-E8B4-48C0-8233-46BDC59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D0C-6E8A-4473-BC8A-A136133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321-AC9C-479D-B2FD-9C1C6F4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82F-4E23-4D22-B075-F976FA5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A7CC-4BCF-4F8A-A047-645215FD96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AC31-DA89-4BBA-BCE1-6EFAAB7E8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87360" y="609480"/>
            <a:ext cx="663732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2540160" cy="340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4800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nded the American Red Cr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475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1800" y="6324480"/>
            <a:ext cx="233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americancivilwar.com/statepic/cwusa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533520"/>
            <a:ext cx="286380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7400" y="43434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assinated at end of w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3011400" cy="432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48132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ght for Black rights; one of the most influential Black men in US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46528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4343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ed US President for two terms (1869-187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81240" y="588960"/>
            <a:ext cx="2710080" cy="329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43000" y="4343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ght Indian wars in the W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2154240" cy="340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1523880"/>
            <a:ext cx="4190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s was arrested and imprisoned for two years for treason. He was not brought to trial and was released in 1867. Lived off the charity of a wealthy wid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2347920" cy="352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43434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president of Washington College (now Washington and Lee University) in Virginia. Congress did not grant him citizenship after the war. He died in 1870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2751120" cy="3471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400" y="43434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t by his own men, had his arm amputated. He died of pneumon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2:46:21Z</dcterms:created>
  <dc:creator> Todd Fibus</dc:creator>
  <dc:description/>
  <dc:language>en-US</dc:language>
  <cp:lastModifiedBy>YHS Teacher</cp:lastModifiedBy>
  <dcterms:modified xsi:type="dcterms:W3CDTF">2009-02-03T13:33:55Z</dcterms:modified>
  <cp:revision>18</cp:revision>
  <dc:subject/>
  <dc:title>Slide 1</dc:title>
</cp:coreProperties>
</file>